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1893-14CA-4210-BA5B-01B9AE7CB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4E7D-73A1-42BB-8FCE-93A2899D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0EE8-AB21-42BF-A3D6-AAF449DC4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9744-7978-4722-BF0E-BC44E5FE6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F872-5D7C-4316-A458-645299C3C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44E4-C479-4556-BD39-BF14DC8D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70B2-8209-4250-94B3-14F79171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6EE6-64C7-46CF-8F6F-D6BB60A6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8F8F-91FB-4E46-9CD7-61E8DB1A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7E87-23AD-41BA-825B-46AA8C7F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235F-5810-4DA8-8E0D-2299FF49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41DA-2D7C-47C7-8E08-AB331AEF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A61C-74F1-4149-91DE-0B112E72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4519-A42D-4BF1-B49F-6750BE0F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FC85B-166F-4321-A328-9D11C8B1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C797-7849-479A-9B3A-1561E97F3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38EC-E45F-4ACA-A358-BBF3D1DF4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7848-7FD5-45A7-8AA4-64D1EB70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A74F-180C-4975-8E05-B28F17FA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BB43-2B31-49A4-8D58-E12FF820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CD97-41A8-439B-AFFB-0F2ED095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37B9-F282-4496-B078-624A0FFB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6FE3-54DF-44AE-805A-E2F60C77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11C0-EF29-4D6B-872D-EDB0EA8A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3C8D-B3CE-4290-9B6D-184F21B23C6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D82D-E550-44B1-8FC9-BA79A3C3417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eam 7: 7h3 31337 h4x0r5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6840" y="388620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onathan Che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Mike Headle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niel Che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Kyle Willstat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e A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057400" y="1752480"/>
            <a:ext cx="51814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ultiplexer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39625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hift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438280" y="1752480"/>
            <a:ext cx="4114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asic Functions: X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0" t="77197" r="0" b="0"/>
          <a:stretch/>
        </p:blipFill>
        <p:spPr>
          <a:xfrm>
            <a:off x="838080" y="2057400"/>
            <a:ext cx="77724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er: Try 1           Successful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ipple Carry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lay: 10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 rot="5400000">
            <a:off x="1936080" y="349560"/>
            <a:ext cx="5271840" cy="746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er: Try 2       Successful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arry Select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lay: 7.4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4582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er: Try 3       Failed (10 hrs later) Kogge-Stone        Thr. Delay: 2.4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4410360" cy="42246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819680" y="2590920"/>
            <a:ext cx="43243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etric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   We Win! Most Points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transistors sized for equivalent R to characteristic invert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ze=16952u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lay=tc-q+thold+tALU=~11.5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wer=122.3mW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tal Metric=274,184,61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ay too much time spent on add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est case adder ALU delay ~5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re power, more area, much less ti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9T12:34:56Z</dcterms:created>
  <dc:creator>ITC Labs and Classrooms</dc:creator>
  <dc:description/>
  <dc:language>en-US</dc:language>
  <cp:lastModifiedBy>ITC Labs and Classrooms</cp:lastModifiedBy>
  <dcterms:modified xsi:type="dcterms:W3CDTF">2008-04-29T14:45:53Z</dcterms:modified>
  <cp:revision>4</cp:revision>
  <dc:subject/>
  <dc:title>Team 7: 7h3 31337 h4x0r5 </dc:title>
</cp:coreProperties>
</file>